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060700" cy="71993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4970-C1E7-48EB-BB5F-22D5336B7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10600" y="382320"/>
            <a:ext cx="2638440" cy="13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10600" y="1915920"/>
            <a:ext cx="263844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10600" y="4302360"/>
            <a:ext cx="263844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0379-394E-4CE6-ACBF-DF588BF29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10600" y="382320"/>
            <a:ext cx="2638440" cy="13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10600" y="1915920"/>
            <a:ext cx="1287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62760" y="1915920"/>
            <a:ext cx="1287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10600" y="4302360"/>
            <a:ext cx="1287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1562760" y="4302360"/>
            <a:ext cx="1287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BDCE-C464-4AC8-A7A2-03F19C342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10600" y="382320"/>
            <a:ext cx="2638440" cy="13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10600" y="1915920"/>
            <a:ext cx="84924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02680" y="1915920"/>
            <a:ext cx="84924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994760" y="1915920"/>
            <a:ext cx="84924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10600" y="4302360"/>
            <a:ext cx="84924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1102680" y="4302360"/>
            <a:ext cx="84924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1994760" y="4302360"/>
            <a:ext cx="84924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6E7A-B5ED-422E-BE8E-DC71DE5C7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10600" y="382320"/>
            <a:ext cx="2638440" cy="13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10600" y="1915920"/>
            <a:ext cx="2638440" cy="456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9256-2719-4BFC-837F-461504488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10600" y="382320"/>
            <a:ext cx="2638440" cy="13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10600" y="1915920"/>
            <a:ext cx="263844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FCA7-AE62-4B84-A6BC-B84257C57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10600" y="382320"/>
            <a:ext cx="2638440" cy="13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10600" y="1915920"/>
            <a:ext cx="128736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1562760" y="1915920"/>
            <a:ext cx="128736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0472-F389-4A78-89E4-AE476BB05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0600" y="382320"/>
            <a:ext cx="2638440" cy="13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8F44-EA4F-4CFA-AE51-A717A8F4F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10600" y="382320"/>
            <a:ext cx="2638440" cy="64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6141-91DB-48EC-9200-FD03A86F2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10600" y="382320"/>
            <a:ext cx="2638440" cy="13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10600" y="1915920"/>
            <a:ext cx="1287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1562760" y="1915920"/>
            <a:ext cx="128736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10600" y="4302360"/>
            <a:ext cx="1287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233C-2375-4B53-A408-42A534748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10600" y="382320"/>
            <a:ext cx="2638440" cy="13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10600" y="1915920"/>
            <a:ext cx="128736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1562760" y="1915920"/>
            <a:ext cx="1287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562760" y="4302360"/>
            <a:ext cx="1287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535D-9C0E-4B20-95B9-649A55F79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10600" y="382320"/>
            <a:ext cx="2638440" cy="13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10600" y="1915920"/>
            <a:ext cx="1287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562760" y="1915920"/>
            <a:ext cx="1287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10600" y="4302360"/>
            <a:ext cx="263844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74FC-AAF1-4342-A4F5-3241E2F74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0600" y="382320"/>
            <a:ext cx="2638440" cy="13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10600" y="1915920"/>
            <a:ext cx="263844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6320" indent="-76320">
              <a:lnSpc>
                <a:spcPct val="9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1" marL="228600" indent="-76320">
              <a:lnSpc>
                <a:spcPct val="9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2" marL="380880" indent="-75960">
              <a:lnSpc>
                <a:spcPct val="9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3" marL="534960" indent="-76320">
              <a:lnSpc>
                <a:spcPct val="9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4" marL="687240" indent="-75960">
              <a:lnSpc>
                <a:spcPct val="9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5" marL="687240" indent="-75960">
              <a:lnSpc>
                <a:spcPct val="9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6" marL="687240" indent="-75960">
              <a:lnSpc>
                <a:spcPct val="9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10960" y="6671880"/>
            <a:ext cx="68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4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4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4480" y="6671880"/>
            <a:ext cx="10317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61800" y="6671880"/>
            <a:ext cx="6872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4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0C395D-4085-4D72-B726-02E6548594CB}" type="slidenum">
              <a:rPr b="0" lang="es-ES" sz="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" name="think-cell data - do not delete" descr=""/>
          <p:cNvPicPr/>
          <p:nvPr/>
        </p:nvPicPr>
        <p:blipFill>
          <a:blip r:embed="rId2"/>
          <a:stretch/>
        </p:blipFill>
        <p:spPr>
          <a:xfrm>
            <a:off x="0" y="1440"/>
            <a:ext cx="360" cy="1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think-cell data - do not delete" descr=""/>
          <p:cNvPicPr/>
          <p:nvPr/>
        </p:nvPicPr>
        <p:blipFill>
          <a:blip r:embed="rId1"/>
          <a:stretch/>
        </p:blipFill>
        <p:spPr>
          <a:xfrm>
            <a:off x="-13768560" y="1440"/>
            <a:ext cx="1800" cy="18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65160" y="3505320"/>
            <a:ext cx="2930400" cy="188640"/>
            <a:chOff x="65160" y="3505320"/>
            <a:chExt cx="2930400" cy="188640"/>
          </a:xfrm>
        </p:grpSpPr>
        <p:pic>
          <p:nvPicPr>
            <p:cNvPr id="44" name="Imagen 6" descr=""/>
            <p:cNvPicPr/>
            <p:nvPr/>
          </p:nvPicPr>
          <p:blipFill>
            <a:blip r:embed="rId2"/>
            <a:stretch/>
          </p:blipFill>
          <p:spPr>
            <a:xfrm>
              <a:off x="2251080" y="3563640"/>
              <a:ext cx="744480" cy="7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Picture 2" descr=""/>
            <p:cNvPicPr/>
            <p:nvPr/>
          </p:nvPicPr>
          <p:blipFill>
            <a:blip r:embed="rId3"/>
            <a:stretch/>
          </p:blipFill>
          <p:spPr>
            <a:xfrm>
              <a:off x="65160" y="3505320"/>
              <a:ext cx="2146320" cy="188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11-27T08:08:51Z</dcterms:created>
  <dc:creator>Calviño Gonzalez, Maria</dc:creator>
  <dc:description/>
  <dc:language>en-US</dc:language>
  <cp:lastModifiedBy>Calviño Gonzalez, Maria</cp:lastModifiedBy>
  <dcterms:modified xsi:type="dcterms:W3CDTF">2025-06-11T12:16:36Z</dcterms:modified>
  <cp:revision>7</cp:revision>
  <dc:subject/>
  <dc:title>PowerPoint Presentation</dc:title>
</cp:coreProperties>
</file>